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14C1-0DE4-41FA-8CE8-BD003984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EE74-D3B3-4A46-A4B8-EB7D2E4A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3666-8E71-47A6-A5AA-4F8BFE3C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11C7-BD97-46C8-9E27-F4229FD6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6B27-481E-4430-8D6C-A3877EE35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073B-29EF-4817-816F-21B91E71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D8A1-93AE-467A-9586-3158C5A5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F7AF-1056-466D-8B4D-3944189F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67FC-4E3F-411B-AE3C-7D6F84A7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522E-7773-40B7-89B2-DB161C4E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D928-E505-4860-9DB7-D35D3641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E820-3677-48CE-895C-57BC0D49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BF44-43BF-44CA-97AE-485C57AF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6AC7-330E-471D-A79A-709006F8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FDE4-77E8-47ED-90BE-A3D4A4BD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DA13-9188-4F6B-953B-2E8F1EA2B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9160-CA31-4873-896E-1CD23213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8CC5-6865-4990-B434-8447A3B8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4C01-66D2-4C51-99A1-F643647F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E8CC-951C-4C56-A271-7AB90891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6189-223D-4371-A4A7-F0823FA3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784F-43FD-45F7-B1F5-08EFF788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44ED-7A32-48C9-AF1F-237B811C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A11C-890A-43C0-A8D5-047A844B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F6CD-A463-455A-813F-E9F81CF1AA9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F52E-69C6-47B1-A818-E9D818949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183A-6970-4708-B90D-93367535F5A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B1A4-70C4-45B1-8F6C-9E86495D9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TSI and Lawful Intercep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in Gap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 TC Sec 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A010-0274-4470-93E9-DBAB0D38C73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P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ctures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on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point to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6FC4-2667-497E-9E3B-01044D6DAC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2560" y="2057400"/>
          <a:ext cx="7772400" cy="4397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2560" y="2057400"/>
                    <a:ext cx="77724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6903-0646-42F3-AEAC-4C32E2570D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standardi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ed to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hass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D665-F256-41FD-BD82-5C14EB7658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ayers in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ulators &amp; Mini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w Enforcement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029B-FB1E-4557-B5FA-98E76F1880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ETSI doing for da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P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F319-1321-44CA-BBBF-0CCC8D77F2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re is the market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ll steam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the deman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and mor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ail not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th will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149C-3C8F-40BB-8FDA-E2476A4569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ET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opt ETSI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p, for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rocious pac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hard to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3959-6E21-447E-9032-68440586BA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re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ww.etsi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ebapp.etsi.org/pd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ww.etsi.org/SEC/sec_li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0814-235F-4B78-98F1-F43C8ACF1E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out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Telecommunications Standard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“standards facto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industry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and Global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74D3-252A-44B4-933C-9CF30EF70C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STN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1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us supporting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 Requirements (ETR 33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 Elements (ES 201 1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E685-E97A-4772-806C-E689325DD1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Major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ed with 17th January 1995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led out” LEA requirements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work elements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over Interface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sed Handover Interface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D834-70E8-4C0F-BDEF-A9AACEDD00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ucture of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cept relat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es the boundary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A165-9934-4780-A95A-98A7FA6E0B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500880" y="5829480"/>
            <a:ext cx="2119320" cy="84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44800" y="1219320"/>
          <a:ext cx="6192720" cy="545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4800" y="1219320"/>
                    <a:ext cx="619272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30200" y="3967200"/>
            <a:ext cx="228600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 = Access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 = Handover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IF = internal intercepting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I = internal network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MF = Law enforcement monitoring facilit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F = Mediation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WO = Network operator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vP = Service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0A8F-4872-42B4-AF59-0950B0DA19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option of ES 201 6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04F1-5354-4E60-98BA-E7F2B5D2CF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9 (03.3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so TE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 301 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D399-191C-4F66-87D6-5EA6FE0A02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8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ex B of TS 101 5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 “Issues on IP Intercep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9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AFC3-6658-48D3-96AD-35EC224612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5:55:13Z</dcterms:created>
  <dc:creator>Sonia Coleman</dc:creator>
  <dc:description/>
  <dc:language>en-US</dc:language>
  <cp:lastModifiedBy>infosys</cp:lastModifiedBy>
  <dcterms:modified xsi:type="dcterms:W3CDTF">2001-06-04T05:58:49Z</dcterms:modified>
  <cp:revision>6</cp:revision>
  <dc:subject/>
  <dc:title>Title</dc:title>
</cp:coreProperties>
</file>